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zapbig0g.wav" ContentType="audio/x-wav"/>
  <Override PartName="/ppt/media/bserie06.wav" ContentType="audio/x-wav"/>
  <Override PartName="/ppt/media/jetflyby2.wav" ContentType="audio/x-wav"/>
  <Override PartName="/ppt/media/children%20wow.wav" ContentType="audio/x-wav"/>
  <Override PartName="/ppt/media/hzipup01.wav" ContentType="audio/x-wav"/>
  <Override PartName="/ppt/media/lzipup01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0FE9-0D1A-4567-9C9F-CB9766855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646D-1E99-4D0F-9505-E4315B28B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3091-FB97-4E14-9678-0296618B1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C301-1675-4FD4-80B8-E2F306E71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D8C6-4E58-4674-9750-5E56924E3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585B-6A5F-4C8D-8EC7-E47BF6838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2857-F9B4-4C23-B4D6-AF36A69EF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A33F-D867-4DE3-8ADC-5547BDA4E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CBFE-8169-45DC-AE69-E96721993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1770-27E7-4A4B-AABC-08F05BE5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076F-42FF-413C-968A-7139EDE0B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85A4-2825-489C-899D-89C7FE27E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9D2D3-C21E-4F08-8F45-B907D67BA6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bserie06.wav"/><Relationship Id="rId3" Type="http://schemas.openxmlformats.org/officeDocument/2006/relationships/audio" Target="../media/jetflyby2.wav"/><Relationship Id="rId4" Type="http://schemas.openxmlformats.org/officeDocument/2006/relationships/audio" Target="../media/jetflyby2.wav"/><Relationship Id="rId5" Type="http://schemas.openxmlformats.org/officeDocument/2006/relationships/audio" Target="../media/children%20wow.wav"/><Relationship Id="rId6" Type="http://schemas.openxmlformats.org/officeDocument/2006/relationships/audio" Target="../media/bserie06.wav"/><Relationship Id="rId7" Type="http://schemas.openxmlformats.org/officeDocument/2006/relationships/audio" Target="../media/hzipup01.wav"/><Relationship Id="rId8" Type="http://schemas.openxmlformats.org/officeDocument/2006/relationships/audio" Target="../media/jetflyby2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audio" Target="../media/jetflyby2.wav"/><Relationship Id="rId12" Type="http://schemas.openxmlformats.org/officeDocument/2006/relationships/audio" Target="../media/jetflyby2.wav"/><Relationship Id="rId13" Type="http://schemas.openxmlformats.org/officeDocument/2006/relationships/audio" Target="../media/children%20wow.wav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jetflyby2.wav"/><Relationship Id="rId3" Type="http://schemas.openxmlformats.org/officeDocument/2006/relationships/audio" Target="../media/jetflyby2.wav"/><Relationship Id="rId4" Type="http://schemas.openxmlformats.org/officeDocument/2006/relationships/audio" Target="../media/children%20wow.wav"/><Relationship Id="rId5" Type="http://schemas.openxmlformats.org/officeDocument/2006/relationships/audio" Target="../media/bserie06.wav"/><Relationship Id="rId6" Type="http://schemas.openxmlformats.org/officeDocument/2006/relationships/audio" Target="../media/jetflyby2.wav"/><Relationship Id="rId7" Type="http://schemas.openxmlformats.org/officeDocument/2006/relationships/audio" Target="../media/jetflyby2.wav"/><Relationship Id="rId8" Type="http://schemas.openxmlformats.org/officeDocument/2006/relationships/audio" Target="../media/children%20wow.wav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2 – 3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491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Simplif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0" y="1362240"/>
                <a:ext cx="399240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4</m:t>
                    </m:r>
                    <m:r>
                      <m:t xml:space="preserve">÷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2741760" y="2298600"/>
                <a:ext cx="44748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1204920" y="2319480"/>
                <a:ext cx="13888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÷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2162160" y="3043080"/>
                <a:ext cx="447840" cy="71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4299120" y="1359000"/>
                <a:ext cx="484488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×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4826160" y="885960"/>
                <a:ext cx="15951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5227560" y="2176560"/>
                <a:ext cx="3719520" cy="9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×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6067440" y="3062160"/>
                <a:ext cx="49356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6732720" y="3070080"/>
                <a:ext cx="183996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6462720" y="3832200"/>
                <a:ext cx="8524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7278840" y="3832200"/>
                <a:ext cx="89676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6943680" y="4568760"/>
                <a:ext cx="85104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2 – 3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7491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Simplif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214200" y="1378080"/>
                <a:ext cx="408312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0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2608200" y="2320920"/>
                <a:ext cx="7160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1204920" y="2297160"/>
                <a:ext cx="138888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2139840" y="3043080"/>
                <a:ext cx="492120" cy="71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5106960" y="1389240"/>
                <a:ext cx="3228840" cy="94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602400" y="2297160"/>
                <a:ext cx="941400" cy="9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7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6997680" y="3279600"/>
                <a:ext cx="80640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7618320" y="2430360"/>
                <a:ext cx="4939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538280"/>
            <a:ext cx="9144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39, 2 – 3 #1-20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orksheet #12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.skelton</cp:lastModifiedBy>
  <dcterms:modified xsi:type="dcterms:W3CDTF">2004-08-20T13:11:42Z</dcterms:modified>
  <cp:revision>51</cp:revision>
  <dc:subject/>
  <dc:title>Slide 1</dc:title>
</cp:coreProperties>
</file>